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E90E-1F4E-4950-B84E-3BBDB6925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7DAA-B741-4CE3-815F-CB051FF0F0D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E8B-6491-42F0-AEF0-9EB5ED04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482-DBD5-4B28-AD19-30069CEA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489-8081-4920-8D6D-C6A4DB3E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CCAF-B582-4424-8725-F1B3BDB0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49C4-12A4-4EF1-A34D-603698A6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6C1F-5EBA-420C-A953-E9FEEFB2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CB55-5E30-4F74-8866-F870336A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50F2-321A-4B24-BCD4-A669F996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6D26-889A-4886-A1EC-F3CDAA82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CE6E-72CE-45F5-A148-59F6A748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CD01-EB13-4A80-9911-5E6B8F20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7FB4-6235-484B-98E5-96A7A695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C5C7-470D-409D-B311-04EDC20A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0336-6B38-44F0-A4B2-F11F78D9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0D54-7BE5-4BF8-B4CA-F64E3757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708E-DA50-4BDA-AC8C-7D093996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80F0-6E65-48DB-8D7A-69D03561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9E4F8-A248-4F96-9C30-BE84360C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152F8-BB35-45D4-9E6B-DB509959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C1DD1-71D6-40F7-AF50-20EFC3C2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E586F-EE18-4668-916C-2F92887C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551F9-E7F4-4CCB-B1E4-A1E164DB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9D3-0B65-4F07-B648-84D1700C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207CB-4ADC-4E2B-B509-8BAD4193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17B88-A314-4578-A9D9-1F20AD1C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F3D9C-6A93-4CC9-9EB9-6C423080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01F82-5FBD-42E0-9696-742673AF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B3C5-E3EB-4D68-A953-D451E73E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D353D-325F-4E56-AFAC-93D000DB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D6537-7E05-4163-AD11-1F665919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73919-F9D1-4FF5-9E41-179B26BC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2F15F-D6C6-4628-823E-3F659ABC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D62D4-9165-4667-BCD4-D559B917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0166-6972-4CDA-B74F-A73B50E0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F0050-A023-4DE2-81A6-AAEA14D8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9B05A-0C70-46D6-8ABA-BFEEC6CD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25DBC-2337-4B52-B3FA-AF0D2A0F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31564-8D52-4508-8766-065A6FF2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D82AB-576D-4C44-AC3F-B5BDA29E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D48FA-49BE-4E02-B129-151B0970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67400-0AB1-49D6-BEA5-1DEDDF5E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41900-7415-491A-B036-6E145FC8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35D5E-CFDE-4460-B0D8-96FCA740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96F3F-8DA5-4ABF-B7FB-B7565572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D0CD-1853-47D0-9034-779AB18B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4E97E-6C64-4BF2-B730-A901A188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0C858-4E53-4CCA-A9AC-5CED7550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416FC-A551-41C6-B96A-8E88400F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3E9D3-BAAA-464D-8AE4-10778D9E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8E789-D363-4F4B-8DCE-C36C7EAD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8B2DD-C55B-4E21-80B7-9E7CAE8A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15F94-B73A-48BF-A2FF-96688E5C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A0C62-28C7-4147-8425-B40C7C89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B7201-B856-405D-AD3D-321F83CE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336BB-2580-44B1-AEE7-03BFA64C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20D-B82E-4635-8FB8-10E72348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8CFCD-DEDD-4BD4-ACF1-6947529A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DC889-6B59-4F4A-802E-D9B6CF56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BBDDA6-718E-49F7-A55B-B7D6A35E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90D61-704E-414B-823C-BF244208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091E4-F239-48F7-972A-252A24F9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D151A-A270-482D-8159-A5654429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E17AD8-A058-4615-8AAC-6A11B6EF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A76FCF-A2A8-4876-9197-57F5D008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C40B79-1956-474D-AB8F-A0D27209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FED469-B23B-4CC3-835D-A03CB3A3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AE0-9CE2-4076-8550-7571FA51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EE60C9-9ACD-4038-9D03-1FF1F63B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227980-882D-4517-A3AC-D55E0087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29FEBD-9A75-411D-82CE-9154C12D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DB091-BE8B-4F17-AB5B-5E0892FB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B5C2D-E7DC-4E3E-A698-0F81CFA1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8BBC1-F2F5-443D-A7AA-3B3BD5C2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F2F8F-1516-4769-80CE-F478990C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5DAF1-8BB1-4CC3-B107-C9C719DB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67043-FD93-479A-AD2E-E36541C9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639C4-05D9-48BA-BE20-60F518D2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6EBB-D745-4704-B925-36E51D56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847F7-8E93-42F2-BB17-69C50B72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09472-A006-4D83-9FC7-938A6ED5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EC01B-C4A5-4827-8815-083AAF58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B5010-B1F4-4EDC-95D2-E8793100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B6554-2AE8-44FE-B303-C94BFA54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6E2-4E61-4CE3-8F33-C08A93FA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BA1A-05AF-4DFE-A054-647AD6F3856E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B668-C823-49AB-AE5C-D6AB4365F959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08CB-3A9D-4B3D-90B9-C5C99644D1C3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A3C4-8A60-4AC4-8491-B6D0DB03A5AA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C24F-8D75-4B7E-86BB-660B69C77D3D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AAA6-5C0E-4141-B6C0-BBE0DC0A899F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AEC8-8FA7-4D5D-B72B-C2F664F1BED5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F353-4356-412C-AC7A-0718A0AF853B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7696-CB84-48A9-95A5-96E4AFA81D69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CCDE-701E-4C78-956F-67F15DF24833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FDB7-F8F5-4F4E-9F16-964439453683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FBCC-2865-4735-9C5F-70D704293B81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4143-9AB1-4137-AE1E-6678655BB9A0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5D37-75D5-40B9-AA64-3138AC5CFE6A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etrokids.com/MetroKids/November-2012/Bullies-parents-can-be-sued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remlindog.com/category/random-ridiculous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quebec.huffingtonpost.ca/senator-mobina-jaffer/similarites-cyberintimidation-intimidation-en-personne_b_3660533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7gJPpy1XX0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topbullying.gov/at-risk/effects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idesinc.org/2012/06/18/let-go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hutterstock.com/pic-102244813/stock-photo-crowd-of-sports-spectators-seamless-repeats-horizontally-and-can-be-stacked-vertically-to-make-a.html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eanradin.blogspot.com/2013/04/show-me-evidence.html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odahead.com/living/if-either-your-parents-threaten-to-hurt-you-physically-would-you-believe-them-do-you-think-they-lov/question-755459/?link=ibaf&amp;q=&amp;esrc=s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actherat.wordpress.com/2012/10/13/bullying-a-lifetime-calling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ungryforgodsword.blogspot.com/2012/03/looking-at-each-other-for-lifetime.html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MREEN GILL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7534c"/>
                </a:solidFill>
                <a:latin typeface="Book Antiqua"/>
              </a:rPr>
              <a:t>LA CYBERINTIMIDATION 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354400" y="0"/>
            <a:ext cx="43336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S’intensifier: devenir plus intens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metrokids.com/MetroKids/November-2012/Bullies-parents-can-be-sued/</a:t>
            </a:r>
            <a:r>
              <a:rPr b="0" lang="fr-FR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3238560" y="2573280"/>
            <a:ext cx="264636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Railler: tourner en dérision, ridiculiser quelqu’un ou quelque chose par des moqueries, des plaisanteries plus ou moins vive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gremlindog.com/category/random-ridiculous/</a:t>
            </a:r>
            <a:r>
              <a:rPr b="0" lang="fr-FR" sz="20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3137040" y="2900520"/>
            <a:ext cx="28573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En France et en états-unis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es élevés en général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statiques de suicid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Au Québec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’articl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80468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564b3c"/>
                </a:solidFill>
                <a:latin typeface="Century Gothic"/>
              </a:rPr>
              <a:t>Question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564b3c"/>
                </a:solidFill>
                <a:latin typeface="Century Gothic"/>
              </a:rPr>
              <a:t>Selon cette article, pourquoi intimident-ils, les gens en réalité?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564b3c"/>
                </a:solidFill>
                <a:latin typeface="Century Gothic"/>
              </a:rPr>
              <a:t>Qu’est-ce PREVNET? Quel est l’objectif de PREVNET?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564b3c"/>
                </a:solidFill>
                <a:latin typeface="Century Gothic"/>
              </a:rPr>
              <a:t>Doit-on intervenir à un grand groupe ou aux individus? Pourquoi?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quebec.huffingtonpost.ca/senator-mobina-jaffer/similarites-cyberintimidation-intimidation-en-personne_b_3660533.html</a:t>
            </a:r>
            <a:r>
              <a:rPr b="0" lang="fr-CA" sz="20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ES CAUSE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Culturell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Social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’histoire de famill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’histoire personnell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a lutte de puissanc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ES EFFET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a dépression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’anxiété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Pensées suicidaire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Problèmes de santé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a baisse de succés académiqu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a vidéo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youtube.com/watch?v=17gJPpy1XX0</a:t>
            </a: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Question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64b3c"/>
                </a:solidFill>
                <a:latin typeface="Century Gothic"/>
              </a:rPr>
              <a:t>Que pensent-elles, ces personnes, au sujet de comment la police a besoin d’intervenir?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64b3c"/>
                </a:solidFill>
                <a:latin typeface="Century Gothic"/>
              </a:rPr>
              <a:t>Qu’est-ce le projet ‘Ultimatum?’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64b3c"/>
                </a:solidFill>
                <a:latin typeface="Century Gothic"/>
              </a:rPr>
              <a:t>Quel est l’avis de ces jeunes au sujet de la cyber-intimdation?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428760" y="250920"/>
          <a:ext cx="8264520" cy="6367320"/>
        </p:xfrm>
        <a:graphic>
          <a:graphicData uri="http://schemas.openxmlformats.org/drawingml/2006/table">
            <a:tbl>
              <a:tblPr/>
              <a:tblGrid>
                <a:gridCol w="2754000"/>
                <a:gridCol w="2756160"/>
                <a:gridCol w="275436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odui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atiqu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erspec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593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’épreuv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es réferences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stopbullying.gov/at-risk/effects/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ttp://www.bullyingstatistics.org/content/why-do-people-bully.html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ttp://www.dosomething.org/tipsandtools/11-facts-about-cyber-bullying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ttp://www.bullyingstatistics.org/content/cyber-bullying-statistics.htm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ttp://www.larousse.fr/dictionnaires/francai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ttp://files.efc-canada.net/si/Education/By_the_Numbers_Bullying_Report_April_2012.pdf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6b7d72"/>
                </a:solidFill>
                <a:latin typeface="Book Antiqua"/>
              </a:rPr>
              <a:t>Les questions pre-présentation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Que savez-vous de la cyberintimidation?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Quelle sont les causes de la cyberintimidation?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Quelles sont les similarités entre la cyberintimidation et l’intimidation en réalité? Différences?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Intervenir: se mêler d’une action, d’une situation en cours en vue d’influer sur le cours des événement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64b3c"/>
                </a:solidFill>
                <a:latin typeface="Century Gothic"/>
              </a:rPr>
              <a:t>http://www.picturesof.net/pages/100604-002117-620053.html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3048120" y="3220920"/>
            <a:ext cx="30477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Intimider: inspirer à quelqu’un une crainte, un trouble qui lui font perdre son assuranc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tidesinc.org/2012/06/18/let-go/</a:t>
            </a:r>
            <a:r>
              <a:rPr b="0" lang="fr-FR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2876400" y="2581200"/>
            <a:ext cx="29545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Témoin: personne qui a vu ou entendu quelque chose, et qui peut éventuellement le certifier, le rapporter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3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shutterstock.com/pic-102244813/stock-photo-crowd-of-sports-spectators-seamless-repeats-horizontally-and-can-be-stacked-vertically-to-make-a.html</a:t>
            </a:r>
            <a:r>
              <a:rPr b="0" lang="fr-FR" sz="1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3098880" y="2768760"/>
            <a:ext cx="29462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Témoignage: déclaration, déposition d’un témoin en justic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deanradin.blogspot.com/2013/04/show-me-evidence.html</a:t>
            </a:r>
            <a:r>
              <a:rPr b="0" lang="fr-FR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3301920" y="28558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Menacer: chercher à intimider quelqu’un en lui faisant craindre quelque chose, en usant de menace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3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sodahead.com/living/if-either-your-parents-threaten-to-hurt-you-physically-would-you-believe-them-do-you-think-they-lov/question-755459/?link=ibaf&amp;q=&amp;esrc=s</a:t>
            </a:r>
            <a:r>
              <a:rPr b="0" lang="fr-FR" sz="1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3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2814480" y="2803680"/>
            <a:ext cx="3132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Harcèle: soumettre quelqu’un, un groupe à d’incessantes petites attaque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jactherat.wordpress.com/2012/10/13/bullying-a-lifetime-calling/</a:t>
            </a: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2819520" y="2797200"/>
            <a:ext cx="34923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Contrefaçon: action d’imiter frauduleusement un objet ayant un caractère public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hungryforgodsword.blogspot.com/2012/03/looking-at-each-other-for-lifetime.html</a:t>
            </a:r>
            <a:r>
              <a:rPr b="0" lang="fr-FR" sz="16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3301920" y="2913120"/>
            <a:ext cx="25275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15:04:46Z</dcterms:created>
  <dc:creator>Amreen Gill</dc:creator>
  <dc:description/>
  <dc:language>en-US</dc:language>
  <cp:lastModifiedBy>Stampfl, Monica</cp:lastModifiedBy>
  <dcterms:modified xsi:type="dcterms:W3CDTF">2013-10-09T21:41:47Z</dcterms:modified>
  <cp:revision>28</cp:revision>
  <dc:subject/>
  <dc:title>Cyber Intimidation</dc:title>
</cp:coreProperties>
</file>